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DD45-312C-4D7C-AE86-6FA30E994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4EF6-CE63-4EC9-9B8F-F572D42E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E78B-EA7B-4991-8337-7862F1EE2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96A2-8FAE-44F3-95FE-3C9960B95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4293-6A33-4BC3-9AC8-0D5919AF4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119E-4137-4B8F-831A-0206188E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4E7A-6BD7-49B9-B7A1-D792AEC0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9A69-BF7F-4A19-99AC-195D2E0E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11A9-531A-4884-BC51-6678E202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ABC1-9168-4BDD-996F-F687C0AB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04AA-E0FE-4BB7-9E84-8A44D8E0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9AD2-29DD-498A-935D-F0D9FCCE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77EA-6EBA-45A8-A2AE-7AF43F8A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A5AD-6EB4-455C-9BCD-66287869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72A2-7BDC-4E2C-AFD5-E9F99890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C2AA-FF11-431E-A63B-1A5C81580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28A6-2DEA-4B56-9738-65B749A08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CBBF-3B23-49C6-B4BD-BD2DE17C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24A9-5029-4BEC-A15A-010FCA01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A405-238F-4C8D-A47A-40CAD841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8565-0C6F-469C-A870-7622B568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721D-C6F1-466C-8325-EAA33FCC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67B6-F275-4AE5-ACFC-0C2A2B0C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C1F5-304A-4282-A872-91A62878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B4A6-89F6-491D-A119-0AECDFCE4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644E-0EE1-4528-96C8-29246E684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The Natural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and Thinking on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mping highways and byways, wandering everywhere bird dogging the sandlots . . .”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646280" y="1981080"/>
            <a:ext cx="5851440" cy="41148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teral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 is dreaming about discovering a group of very talented (and bearded) ball players out in the country behind a barn.  They run away when he calls to them, never to be cau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erences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 is feeling the pressure to discover talent in order to show his worth as a scout and to make his living.  This is what drives him.  The dream shows he (like Roy) is internalizing the pressure/confli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ied thoughts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common human response for inner conflicts to reveal themselves in our subconscious and, therefore, in our dre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 a long time trying to settle himself comfortably, he fell snoring asleep . . .”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85800" y="2006640"/>
            <a:ext cx="7772400" cy="406224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our thoughts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c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d though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member as you read this story . .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between the lines to bring your own unique insight into the characters and situ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characters develop, they reveal their human nature and contribute to story the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beyond the words to bring your own world of experiences to the world of Roy Hobbs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Natur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s you offer your inferences and applied thoughts: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9400" y="1981080"/>
            <a:ext cx="380844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ize that it’s OK to take ris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ct of reaching out, or reaching in for insight is how we grow and lea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966960" y="2265480"/>
            <a:ext cx="3163680" cy="382752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ing Academic Standard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11.A.1 - Demonstrate the ability to understand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rpr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ctional text, novel excerpt, and poetry, appropriate to grade le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purpose of this strateg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077320" cy="42670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lvl="2" marL="1074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more self-aware of how you think and lea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more independent and confident in your own analytical ski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e that what you think in response to what you read is as important as what the author wri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more tuned in to the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vels of thought . .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al - reading the words and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tial - read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twe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words and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d - reading and think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yo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words and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re on the levels . .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ter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The author’s words and use of language.  (vocabulary challeng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erent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Your interpretation of what those words mean.  (self-awareness, self-confid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pli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Going beyond the story and characters and finding analogies or similarities in other reads or your own life experiences -- observations on human 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just as in this dream he could never shake off”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511280" y="1981080"/>
            <a:ext cx="6120000" cy="41148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s dream he could never shake off .  . 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al:  Roy dreams about holding a gold baseball and not being sure whether to hold onto it or to let it dr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s dream he could never shake off .  . 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tial thinking:  Roy’s dream shows that he is deeply conflicted and unsettled about what he should do about his future in baseball.  The “gold baseball” symbolic of . 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s dream he could never shake off .  . 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d thinking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people wrestle with inner conflicts, it sometimes shows up in their dream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authors use dreams as a vehicle to foretell future even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13:40:14Z</dcterms:created>
  <dc:creator>Teacher</dc:creator>
  <dc:description/>
  <dc:language>en-US</dc:language>
  <cp:lastModifiedBy>Teacher FCASD</cp:lastModifiedBy>
  <dcterms:modified xsi:type="dcterms:W3CDTF">2011-08-31T16:47:02Z</dcterms:modified>
  <cp:revision>20</cp:revision>
  <dc:subject/>
  <dc:title>The House on Mango Street</dc:title>
</cp:coreProperties>
</file>